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9AC0-E6D0-4450-A7ED-8D2EC00F7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5769-DE06-4676-A056-D75D61A3E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CDD1-630E-44FD-8110-A4160B739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37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299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7788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37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299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54D4-1293-48C1-A72F-0ECB5FCD1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0E2-46F9-4E41-A8F6-49985625B6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1DD-D9C4-4029-9F7C-0B9171937B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BDC-329A-4816-B3E0-54392E2877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BA3-589F-4F3D-96A8-E4E04CFDFB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B6B-85F2-4638-A75B-9EDB95105D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7520" y="622440"/>
            <a:ext cx="77929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1F8-32AF-4C56-B618-158FA999BD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AE3-A406-4B2F-B54B-207F32E3E5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8AD0-F471-4656-8224-30BFEAC64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8A3-616C-458A-9C52-E7E4CE9D00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40F-E799-49BB-BF1C-F17BA8E249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7BC-8120-4ABA-B75C-3583C0F1D6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F54-935F-4A17-BE9F-8BB2C8C075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37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299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7788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37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299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EF7-B5AF-4FC9-A4B5-8BB1AB637E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86B0-C632-4C67-80CD-0E4C36A25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86DB-3315-4DA1-A538-4E4FDF440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D5A3-E329-4A97-9530-F5482E4DF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7520" y="622440"/>
            <a:ext cx="77929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B1CA-F342-4347-BE38-C99AE54F0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AEBC-417E-4D58-AFE8-A48E306E7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69C3-F597-4015-895F-D25E798A4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3A5B-F4CF-476D-8709-25172D8A8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64120" y="6716520"/>
            <a:ext cx="24300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E84F-5264-43EF-A59E-91BD2BACD804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249880" y="6705720"/>
            <a:ext cx="319896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Line 4"/>
          <p:cNvSpPr/>
          <p:nvPr/>
        </p:nvSpPr>
        <p:spPr>
          <a:xfrm>
            <a:off x="8578800" y="-6480"/>
            <a:ext cx="0" cy="707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556480" y="6734160"/>
            <a:ext cx="0" cy="123840"/>
          </a:xfrm>
          <a:prstGeom prst="line">
            <a:avLst/>
          </a:prstGeom>
          <a:ln w="9360">
            <a:solidFill>
              <a:srgbClr val="ff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8712360" cy="438120"/>
          </a:xfrm>
          <a:prstGeom prst="rect">
            <a:avLst/>
          </a:prstGeom>
          <a:gradFill rotWithShape="0">
            <a:gsLst>
              <a:gs pos="0">
                <a:srgbClr val="c0bcaf"/>
              </a:gs>
              <a:gs pos="100000">
                <a:srgbClr val="c0bca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8734320" y="0"/>
            <a:ext cx="411120" cy="436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marL="82080" indent="-820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1" marL="93960" indent="-93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200160" indent="-10584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3" marL="297360" indent="-9648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4" marL="629640" indent="108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5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6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366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/>
          <p:cNvPicPr/>
          <p:nvPr/>
        </p:nvPicPr>
        <p:blipFill>
          <a:blip r:embed="rId4"/>
          <a:stretch/>
        </p:blipFill>
        <p:spPr>
          <a:xfrm>
            <a:off x="7756560" y="-12600"/>
            <a:ext cx="941400" cy="45072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2"/>
          <p:cNvSpPr/>
          <p:nvPr/>
        </p:nvSpPr>
        <p:spPr>
          <a:xfrm>
            <a:off x="7669080" y="0"/>
            <a:ext cx="10188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5"/>
          <p:cNvSpPr/>
          <p:nvPr/>
        </p:nvSpPr>
        <p:spPr>
          <a:xfrm>
            <a:off x="8556480" y="6734160"/>
            <a:ext cx="0" cy="123840"/>
          </a:xfrm>
          <a:prstGeom prst="line">
            <a:avLst/>
          </a:prstGeom>
          <a:ln w="9360">
            <a:solidFill>
              <a:srgbClr val="172f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8712360" cy="438120"/>
          </a:xfrm>
          <a:prstGeom prst="rect">
            <a:avLst/>
          </a:prstGeom>
          <a:gradFill rotWithShape="0">
            <a:gsLst>
              <a:gs pos="0">
                <a:srgbClr val="c0bcaf"/>
              </a:gs>
              <a:gs pos="100000">
                <a:srgbClr val="c0bca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8734320" y="0"/>
            <a:ext cx="411120" cy="4366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"/>
          <p:cNvGrpSpPr/>
          <p:nvPr/>
        </p:nvGrpSpPr>
        <p:grpSpPr>
          <a:xfrm>
            <a:off x="957240" y="1820880"/>
            <a:ext cx="7126200" cy="1292040"/>
            <a:chOff x="957240" y="1820880"/>
            <a:chExt cx="7126200" cy="1292040"/>
          </a:xfrm>
        </p:grpSpPr>
        <p:sp>
          <p:nvSpPr>
            <p:cNvPr id="51" name="Rectangle 10"/>
            <p:cNvSpPr/>
            <p:nvPr/>
          </p:nvSpPr>
          <p:spPr>
            <a:xfrm>
              <a:off x="2270160" y="1820880"/>
              <a:ext cx="5813280" cy="1289160"/>
            </a:xfrm>
            <a:prstGeom prst="rect">
              <a:avLst/>
            </a:prstGeom>
            <a:solidFill>
              <a:srgbClr val="d6c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2" name="Picture 11" descr=""/>
            <p:cNvPicPr/>
            <p:nvPr/>
          </p:nvPicPr>
          <p:blipFill>
            <a:blip r:embed="rId3"/>
            <a:stretch/>
          </p:blipFill>
          <p:spPr>
            <a:xfrm>
              <a:off x="957240" y="1820880"/>
              <a:ext cx="1317600" cy="129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13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3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5"/>
          <a:stretch/>
        </p:blipFill>
        <p:spPr>
          <a:xfrm>
            <a:off x="7756560" y="-12600"/>
            <a:ext cx="941400" cy="450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7"/>
          <p:cNvSpPr/>
          <p:nvPr/>
        </p:nvSpPr>
        <p:spPr>
          <a:xfrm>
            <a:off x="7669080" y="0"/>
            <a:ext cx="10188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marL="82080" indent="-820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1" marL="93960" indent="-93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200160" indent="-10584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3" marL="297360" indent="-9648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4" marL="629640" indent="108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5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6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3"/>
          </p:nvPr>
        </p:nvSpPr>
        <p:spPr>
          <a:xfrm>
            <a:off x="8664120" y="6705360"/>
            <a:ext cx="14292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40CB-830C-44AE-AC98-EC7FD36C2649}" type="slidenum">
              <a:rPr b="1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02240" y="3911400"/>
            <a:ext cx="4338720" cy="27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Integrantes GRUPO INP: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Mónica Aguilar</a:t>
            </a: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Mauricio González</a:t>
            </a: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Giorna Morales</a:t>
            </a: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Karina Piña</a:t>
            </a: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Ximena Sandoval</a:t>
            </a: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Alejandra Zúñig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587600"/>
            <a:ext cx="778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d4d4d"/>
                </a:solidFill>
                <a:latin typeface="Tahoma"/>
              </a:rPr>
              <a:t>REDISEÑO DE PROCESO </a:t>
            </a:r>
            <a:br>
              <a:rPr sz="4000"/>
            </a:br>
            <a:r>
              <a:rPr b="1" lang="es-ES" sz="4000" spc="-1" strike="noStrike">
                <a:solidFill>
                  <a:srgbClr val="4d4d4d"/>
                </a:solidFill>
                <a:latin typeface="Tahoma"/>
              </a:rPr>
              <a:t> EMPRESA AGUA SANTA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9800" y="450720"/>
            <a:ext cx="8140680" cy="61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7680" indent="-247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Objetivo: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umentar la eficiencia del proceso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Metas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ncorporar tecnología de punta en las lectur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minuir tasa de err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umentar satisfacción de los client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minución de los tiempos del proceso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versificación del sistema de pago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minución de los costo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Indicadores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N° de errores / N° total de medicion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N° de reclamos / N° total de client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N° de facturas con rechazo / N° total de facturas emitid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3840" y="674640"/>
            <a:ext cx="814068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Importancia del rediseñ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efinición del dueño del proceso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e Gerencia Comercial a Gerencia de Operacion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efinición de las funciones propias del negocio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Ámbitos de Acción y alcance de cada Gerenci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efinición del servicio externalización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efinición clara sobre las exigencias a las empresas externas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Tecnología de pun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versificación de sistema de pago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minución de los costos y tiempo del proceso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68560" y="812880"/>
            <a:ext cx="51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Rediseño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43080" y="1892160"/>
            <a:ext cx="81406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efinición del dueño del proceso radicada en el Gerencia de  Operaciones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xigencia a la empresa externa de una lectura electrónica (herramientas tecnológicas adecuadas) que permita exportar la información para facilitar su ingreso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No externalización del ensobrado (sólo la distribución)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68560" y="812880"/>
            <a:ext cx="51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Impacto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1892160"/>
            <a:ext cx="814068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umenta el costo de lectura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isminuye el costo de erro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isminuye el costo de digitalizació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isminuye la tasa de erro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umenta la satisfacción de client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isminuyen los reclamo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929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Proceso AGUA SANTA SA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9080" y="596880"/>
            <a:ext cx="9124920" cy="566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669760" y="687240"/>
            <a:ext cx="107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extern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787480" y="1322280"/>
            <a:ext cx="1851120" cy="365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7f7f7f"/>
                </a:solidFill>
                <a:latin typeface="Tahoma"/>
              </a:rPr>
              <a:t>Ejecuta Programa de Rut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045040" y="689040"/>
            <a:ext cx="114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4400" y="689040"/>
            <a:ext cx="171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Agua santa S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(Gerencia de Operaciones)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9" name="AutoShape 16"/>
          <p:cNvCxnSpPr>
            <a:stCxn id="110" idx="3"/>
            <a:endCxn id="106" idx="1"/>
          </p:cNvCxnSpPr>
          <p:nvPr/>
        </p:nvCxnSpPr>
        <p:spPr>
          <a:xfrm>
            <a:off x="1863720" y="1417680"/>
            <a:ext cx="924480" cy="2160"/>
          </a:xfrm>
          <a:prstGeom prst="bentConnector3">
            <a:avLst>
              <a:gd name="adj1" fmla="val 4998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11" name="AutoShape 18"/>
          <p:cNvCxnSpPr>
            <a:stCxn id="106" idx="2"/>
          </p:cNvCxnSpPr>
          <p:nvPr/>
        </p:nvCxnSpPr>
        <p:spPr>
          <a:xfrm rot="5400000">
            <a:off x="3575880" y="1649520"/>
            <a:ext cx="272160" cy="2160"/>
          </a:xfrm>
          <a:prstGeom prst="bentConnector3">
            <a:avLst>
              <a:gd name="adj1" fmla="val 49668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12" name="AutoShape 19"/>
          <p:cNvCxnSpPr>
            <a:stCxn id="113" idx="1"/>
          </p:cNvCxnSpPr>
          <p:nvPr/>
        </p:nvCxnSpPr>
        <p:spPr>
          <a:xfrm flipH="1" flipV="1" rot="10800000">
            <a:off x="444240" y="2227680"/>
            <a:ext cx="606960" cy="872280"/>
          </a:xfrm>
          <a:prstGeom prst="bentConnector4">
            <a:avLst>
              <a:gd name="adj1" fmla="val -37685"/>
              <a:gd name="adj2" fmla="val 70478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14" name="Text Box 23"/>
          <p:cNvSpPr/>
          <p:nvPr/>
        </p:nvSpPr>
        <p:spPr>
          <a:xfrm>
            <a:off x="6512040" y="685800"/>
            <a:ext cx="117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Corre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7"/>
          <p:cNvSpPr/>
          <p:nvPr/>
        </p:nvSpPr>
        <p:spPr>
          <a:xfrm>
            <a:off x="2562120" y="603360"/>
            <a:ext cx="0" cy="5873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4746600" y="615960"/>
            <a:ext cx="0" cy="586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29"/>
          <p:cNvSpPr/>
          <p:nvPr/>
        </p:nvSpPr>
        <p:spPr>
          <a:xfrm>
            <a:off x="7872480" y="606600"/>
            <a:ext cx="0" cy="58705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90360" y="1219320"/>
            <a:ext cx="1773360" cy="396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ahoma"/>
              </a:rPr>
              <a:t>Programación de rutas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7881840" y="644400"/>
            <a:ext cx="11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Instituciones Financiera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52"/>
          <p:cNvSpPr/>
          <p:nvPr/>
        </p:nvSpPr>
        <p:spPr>
          <a:xfrm>
            <a:off x="6354720" y="604800"/>
            <a:ext cx="0" cy="58723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0" name="AutoShape 61"/>
          <p:cNvCxnSpPr/>
          <p:nvPr/>
        </p:nvCxnSpPr>
        <p:spPr>
          <a:xfrm flipV="1" rot="10800000">
            <a:off x="1780560" y="2140560"/>
            <a:ext cx="1092960" cy="3960"/>
          </a:xfrm>
          <a:prstGeom prst="bentConnector3">
            <a:avLst>
              <a:gd name="adj1" fmla="val 49983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21" name="AutoShape 62"/>
          <p:cNvSpPr/>
          <p:nvPr/>
        </p:nvSpPr>
        <p:spPr>
          <a:xfrm>
            <a:off x="557280" y="3100320"/>
            <a:ext cx="936720" cy="4078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64"/>
          <p:cNvSpPr/>
          <p:nvPr/>
        </p:nvSpPr>
        <p:spPr>
          <a:xfrm>
            <a:off x="249120" y="432576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N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5"/>
          <p:cNvSpPr/>
          <p:nvPr/>
        </p:nvSpPr>
        <p:spPr>
          <a:xfrm>
            <a:off x="793800" y="3187800"/>
            <a:ext cx="4413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Tahoma"/>
              </a:rPr>
              <a:t>VALIDA LA INFORMACION?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6"/>
          <p:cNvSpPr/>
          <p:nvPr/>
        </p:nvSpPr>
        <p:spPr>
          <a:xfrm>
            <a:off x="1622520" y="390384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S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68"/>
          <p:cNvSpPr/>
          <p:nvPr/>
        </p:nvSpPr>
        <p:spPr>
          <a:xfrm>
            <a:off x="4908600" y="2049480"/>
            <a:ext cx="1458720" cy="152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Medidor client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6" name="AutoShape 71"/>
          <p:cNvCxnSpPr>
            <a:stCxn id="121" idx="1"/>
          </p:cNvCxnSpPr>
          <p:nvPr/>
        </p:nvCxnSpPr>
        <p:spPr>
          <a:xfrm flipV="1" rot="10800000">
            <a:off x="405720" y="3304080"/>
            <a:ext cx="151560" cy="2382120"/>
          </a:xfrm>
          <a:prstGeom prst="bentConnector3">
            <a:avLst>
              <a:gd name="adj1" fmla="val 251428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27" name="Text Box 72"/>
          <p:cNvSpPr/>
          <p:nvPr/>
        </p:nvSpPr>
        <p:spPr>
          <a:xfrm>
            <a:off x="527040" y="3905280"/>
            <a:ext cx="96372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7f7f7f"/>
                </a:solidFill>
                <a:latin typeface="Tahoma"/>
              </a:rPr>
              <a:t>Calcula SALDO e IMPRIME FACTUR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8" name="AutoShape 73"/>
          <p:cNvCxnSpPr>
            <a:stCxn id="121" idx="2"/>
            <a:endCxn id="127" idx="0"/>
          </p:cNvCxnSpPr>
          <p:nvPr/>
        </p:nvCxnSpPr>
        <p:spPr>
          <a:xfrm rot="5400000">
            <a:off x="818640" y="3698640"/>
            <a:ext cx="39780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29" name="AutoShape 70"/>
          <p:cNvCxnSpPr>
            <a:stCxn id="130" idx="3"/>
          </p:cNvCxnSpPr>
          <p:nvPr/>
        </p:nvCxnSpPr>
        <p:spPr>
          <a:xfrm>
            <a:off x="4225680" y="2128320"/>
            <a:ext cx="670680" cy="34200"/>
          </a:xfrm>
          <a:prstGeom prst="bentConnector3">
            <a:avLst>
              <a:gd name="adj1" fmla="val 70139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1" name="Text Box 48"/>
          <p:cNvSpPr/>
          <p:nvPr/>
        </p:nvSpPr>
        <p:spPr>
          <a:xfrm>
            <a:off x="6534000" y="4317840"/>
            <a:ext cx="1165320" cy="609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Recepciona Facturas y Distribuye a domicilio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AutoShape 73"/>
          <p:cNvCxnSpPr>
            <a:endCxn id="131" idx="1"/>
          </p:cNvCxnSpPr>
          <p:nvPr/>
        </p:nvCxnSpPr>
        <p:spPr>
          <a:xfrm flipV="1">
            <a:off x="1515600" y="4626720"/>
            <a:ext cx="5018760" cy="158040"/>
          </a:xfrm>
          <a:prstGeom prst="bentConnector3">
            <a:avLst>
              <a:gd name="adj1" fmla="val 49985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3" name="Text Box 48"/>
          <p:cNvSpPr/>
          <p:nvPr/>
        </p:nvSpPr>
        <p:spPr>
          <a:xfrm>
            <a:off x="4946760" y="5029200"/>
            <a:ext cx="1164960" cy="365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200" spc="-1" strike="noStrike">
                <a:solidFill>
                  <a:srgbClr val="7f7f7f"/>
                </a:solidFill>
                <a:latin typeface="Tahoma"/>
              </a:rPr>
              <a:t>Recepciona  factura</a:t>
            </a: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7978680" y="5372280"/>
            <a:ext cx="949320" cy="182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200" spc="-1" strike="noStrike">
                <a:solidFill>
                  <a:srgbClr val="7f7f7f"/>
                </a:solidFill>
                <a:latin typeface="Tahoma"/>
              </a:rPr>
              <a:t>Recibe pago</a:t>
            </a: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5" name="AutoShape 73"/>
          <p:cNvCxnSpPr/>
          <p:nvPr/>
        </p:nvCxnSpPr>
        <p:spPr>
          <a:xfrm rot="5400000">
            <a:off x="6479640" y="4644720"/>
            <a:ext cx="255960" cy="94212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36" name="AutoShape 73"/>
          <p:cNvCxnSpPr/>
          <p:nvPr/>
        </p:nvCxnSpPr>
        <p:spPr>
          <a:xfrm flipH="1" rot="16200000">
            <a:off x="6712560" y="4206600"/>
            <a:ext cx="106920" cy="250092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7" name="Text Box 48"/>
          <p:cNvSpPr/>
          <p:nvPr/>
        </p:nvSpPr>
        <p:spPr>
          <a:xfrm>
            <a:off x="7915320" y="5943600"/>
            <a:ext cx="1165320" cy="5479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200" spc="-1" strike="noStrike">
                <a:solidFill>
                  <a:srgbClr val="7f7f7f"/>
                </a:solidFill>
                <a:latin typeface="Tahoma"/>
              </a:rPr>
              <a:t>Remite  información de PAGO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460440" y="5511960"/>
            <a:ext cx="1165320" cy="7617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ACTUALIZA SALDOS y ALIMENTA información  para otros proceso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9" name="AutoShape 73"/>
          <p:cNvCxnSpPr>
            <a:endCxn id="138" idx="3"/>
          </p:cNvCxnSpPr>
          <p:nvPr/>
        </p:nvCxnSpPr>
        <p:spPr>
          <a:xfrm rot="10800000">
            <a:off x="1625040" y="5896800"/>
            <a:ext cx="6315480" cy="275400"/>
          </a:xfrm>
          <a:prstGeom prst="bentConnector3">
            <a:avLst>
              <a:gd name="adj1" fmla="val 5000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2870280" y="1823760"/>
            <a:ext cx="1627200" cy="609840"/>
          </a:xfrm>
          <a:prstGeom prst="flowChartOnlineStorage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Realizan Mediciones Electrónica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44600" y="1802880"/>
            <a:ext cx="1311120" cy="85212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Recibe información electrónica</a:t>
            </a:r>
            <a:r>
              <a:rPr b="0" lang="es-ES_tradnl" sz="1300" spc="-1" strike="noStrike">
                <a:solidFill>
                  <a:srgbClr val="7f7f7f"/>
                </a:solidFill>
                <a:latin typeface="Tahoma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95360" y="4635360"/>
            <a:ext cx="1041480" cy="4701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81680" y="4764240"/>
            <a:ext cx="87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Tahoma"/>
              </a:rPr>
              <a:t>Rotulación d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es-ES" sz="1000" spc="-1" strike="noStrike">
                <a:solidFill>
                  <a:srgbClr val="7f7f7f"/>
                </a:solidFill>
                <a:latin typeface="Tahoma"/>
              </a:rPr>
              <a:t>factur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381560"/>
            <a:ext cx="0" cy="25380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8381880" y="5537160"/>
            <a:ext cx="0" cy="39384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21:56:37Z</dcterms:created>
  <dc:creator>Emilio de Giacomo</dc:creator>
  <dc:description/>
  <dc:language>en-US</dc:language>
  <cp:lastModifiedBy>Ximena Sandoval</cp:lastModifiedBy>
  <cp:lastPrinted>2001-10-24T15:16:31Z</cp:lastPrinted>
  <dcterms:modified xsi:type="dcterms:W3CDTF">2007-10-13T00:12:54Z</dcterms:modified>
  <cp:revision>322</cp:revision>
  <dc:subject/>
  <dc:title>Diapositiva 1</dc:title>
</cp:coreProperties>
</file>